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15D-20FE-496E-B20A-A7501AD7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164-046A-475D-A62C-E4B42918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2766-D1A6-48D5-9382-DD457730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0AB-8E36-47B6-9BC5-A20C5797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E4D-2CF7-4D1A-8C7A-583FAD1E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A52-589F-451E-99E5-0C151806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F83-BC7D-4CB0-9E86-D687D938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812-EC76-40BF-A0EA-16B2F40A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B49-D028-4A10-98A1-8BD44625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246-AE74-4FAF-BC3D-C2442CB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C05-314C-47B9-9BE3-C98E73A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A86-1E9C-4888-A338-7EF6A54F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5F1D-502A-4016-977D-609B17C7B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6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38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ork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14300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ll, work is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roduct of force and distance.  Hu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work is when some objec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moved (force) from on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a to another (dist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362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or work to be done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force must be in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ame direction the object moves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0481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 pushing a car down the road =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ce is in the same direction as the car i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8098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IMPOR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RE IS NO MOVEMENT </a:t>
            </a:r>
            <a:r>
              <a:rPr b="0" i="1" lang="en-US" sz="2400" spc="-1" strike="noStrike">
                <a:solidFill>
                  <a:srgbClr val="996600"/>
                </a:solidFill>
                <a:latin typeface="Times New Roman"/>
              </a:rPr>
              <a:t>AT ALL, THERE IS NO WORK.  ALSO, AT LEAST SOME OF THE FORCE MUST BE IN SAME DIRECTION AS OBJECT 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so, the par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f the force which is not acting in the same direction of the movement is NOT doing work on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work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ng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can find out how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uch work is being done when a force moves an object a certain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1337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743200"/>
            <a:ext cx="693432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weightlifter lifts a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1600-newton barbell over his head 2 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1600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x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2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996600"/>
                </a:solidFill>
                <a:latin typeface="Times New Roman"/>
              </a:rPr>
              <a:t>3200 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M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joules = unit of measure for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9144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ower i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ow fast the work gets 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44792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x:  shoveling snow.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hether a snow blower or a shovel is used to do a 10 foot sidewalk does not change how much work is done.  If the snow blower does do the work faster, than it has more power than the sho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971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35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T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380988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e of 72 N to push a box 1 M in 2 seco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(?) =  Work (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72 N x 1 M)  / 2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(?) = Work (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72 j) / 2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=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36 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atts is </a:t>
            </a:r>
            <a:r>
              <a:rPr b="0" lang="en-US" sz="2000" spc="-1" strike="noStrike">
                <a:solidFill>
                  <a:srgbClr val="996600"/>
                </a:solidFill>
                <a:latin typeface="Times New Roman"/>
              </a:rPr>
              <a:t>unit of measure for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2:22:57Z</dcterms:created>
  <dc:creator>jpak</dc:creator>
  <dc:description/>
  <dc:language>en-US</dc:language>
  <cp:lastModifiedBy>Farwell Area Schools</cp:lastModifiedBy>
  <dcterms:modified xsi:type="dcterms:W3CDTF">2009-03-04T19:30:39Z</dcterms:modified>
  <cp:revision>10</cp:revision>
  <dc:subject/>
  <dc:title>Note Guide 6-1</dc:title>
</cp:coreProperties>
</file>